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40A7-BE28-421E-A879-5584237E13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body"/>
          </p:nvPr>
        </p:nvSpPr>
        <p:spPr>
          <a:xfrm>
            <a:off x="685800" y="4343400"/>
            <a:ext cx="5487840" cy="4116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9B4FFA-E3DE-4AB7-90D4-3F879F52E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C1887-0F99-49AC-AC59-23ED3004F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10ECCB-57ED-4DE9-A3BE-BC85FFEB3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445BF3-501A-4E16-A196-2F8D6B6D89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90C4E-5211-46CB-B150-C13DA4B31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3B16D-F4F5-47E8-B855-73BA976A2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F87D3-5942-4C7F-A47C-D170B5635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E6DDA-0168-46A8-9E8E-147974923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1129A-B116-4B6C-9F16-44F5333E0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2E2A1-B9D3-498C-A1B8-C7A9E7DFD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9AAC2-799D-4296-91AD-145A41C9E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EBBB15-D516-4312-AF6D-CEF452D3D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D5A3-753C-41BA-8E8E-EBF7A6293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1AEB5-927E-4475-8BA4-B3BE9DE55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955AE-B392-44A2-AE45-E91BC621E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86EB7-857B-47B1-A541-E6174B47D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C0E73-A414-4E8F-ADE2-C5D8551B2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D8DB47-767F-444A-B329-C2F59EE30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A5F8C8-61A5-4463-B1FA-3ECD0FF7F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93F9D6-42B5-4C4C-9F15-4109E12B2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5EC056-BC3F-4171-AD9E-DBF410718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B5D18-0AB4-41B9-B655-89D273B395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9650E5-F467-4073-97CD-1B4A64BA9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B2432-6D40-4602-A679-0B9D8BAF84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F2DE-7524-400C-9628-70A0D7329E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7F7E-46F9-44F4-877D-ADE0BF97E9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1</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2</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1)</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Chapter 9, the password manager stored passwords in a file. What would be some of the trade-offs involved in storing the passwords in a relational database instead of in a file? What types of additional input validation might need to be done on usernames and passwords if they are to be stored in a data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HTML filter that, given an arbitrary HTML document, produces an HTML document that will not result in the execution of script if loaded into a user’s browser, but leaves “basic markup” (fonts, formatting, etc.) intact. Consider the possibility that the input document is not well-formed HTML, and also consider browser-specific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HTTP digest authorization. Use a password file with salts, and reuse the </a:t>
            </a:r>
            <a:r>
              <a:rPr b="0" lang="en-US" sz="2800" spc="-1" strike="noStrike">
                <a:solidFill>
                  <a:srgbClr val="000000"/>
                </a:solidFill>
                <a:latin typeface="Courier New"/>
              </a:rPr>
              <a:t>BasicAuthWebServer</a:t>
            </a:r>
            <a:r>
              <a:rPr b="0" lang="en-US" sz="2800" spc="-1" strike="noStrike">
                <a:solidFill>
                  <a:srgbClr val="000000"/>
                </a:solidFill>
                <a:latin typeface="Arial"/>
              </a:rPr>
              <a:t> from Chapter 9. Implement a program that allows you to add and delete passwords to and from the password f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9: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